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63B607-073D-476A-9BEC-0B8DA2E5A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211D50-F5DC-42CB-A07D-A4BC7C77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8B25F4-D716-496B-8CC8-07BD92334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A578D0-B547-4912-91AB-0D20DC61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DE8348-66A0-467B-BBAF-D20FA547D6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B7AA27-0EAA-4928-A405-698011F40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D991C7-B4E2-40D2-BE10-83D33304F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udience review Reverse RFA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CB9D81-B059-417B-96D1-521B23297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8085CB-D789-486A-9783-1D76A68C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of data: Individual Student outcome data and proces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D523D8-C9B2-418C-A861-8DC606F49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2F93F6-CEF0-46DD-9C6C-D939DD26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prompt: Limit/avoid sidebar convers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A37242-DB52-488A-BBC7-FB1B2406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E86DAD-8420-4C54-BF0F-1584C7AA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369076-E8FD-44DC-9570-B278E84F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dpr used in urbana (notice how it also includes pictures to help differentiate for multiple types of learn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C2584C-B52C-417D-9F5C-2E55D2570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750A6C-E55B-41CC-8F8A-4FC41310C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C5C645-09DC-4E0D-8127-BEA3388E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you’d record your data-based decision rules in G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774ADE-C83A-4509-B5F5-031AE5224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3896D7-3C5D-4F39-AE70-6FB4E4751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0F41DD-C431-42A0-9C22-B18EB6682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E49B2C-AAB0-4C9E-B100-226E3B3AC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0744AC-151A-44A3-B966-8B7EB4054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62993C-7784-4EEF-BC8D-05566DFE7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1C4F7C-4E7E-4F10-BFD1-D6FC1A297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A6CA62-BBA2-4762-A130-7CBDBA70F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inform teams that when picking group interventions for their school/district that it is important to assess that the chosen intervention has proven successful for their specific school/community population. (ex: socioeconomic, ethnicity, rural/urban, etc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E4B8F8-DB77-417B-BEAD-DB32D4A1C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can be useful for teams who are going to adapt a curriculum or who are looking for examples of what skills would be taught in an academic skills instruction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73A34B-9859-467C-8078-DE1543B08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examples of lessons that could be taught in a pro-social skills instruction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F33B15-6C8E-4CEF-A979-06C926B6E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lessons/topics that might be taught in a problem solving skills instructional skills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DD18A5-F13D-4B9C-8E9F-0FB022BF1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0AD86B-2FC7-40A8-93C5-7A3BF5F6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PR card for a student in a SAIG.  Notice on the DPR card the 3 school wide expectations are listed (in black bold) and the skill set being taught in the SAIG are listed in purple/blue underneath the black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69E5AD-473D-4C62-8F39-E82577B60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166EF8-E991-4CC7-A462-9F26CEE3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following is taken from How to Build a Successful Mentoring Program using the Elements of Effective Practi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One-to-One mentoring:  One to one mentoring places one adult in a relationship with one youth.  Group Mentoring involves one adult mentor forming a relationship with a group of up to four young people.  PLEASE note there are people doing this type of mentoring with groups of ten kids and it is working-for example the TEN BOYS CLUB.  The mentor assumes the role of leader and makes a commitment to meet regularly with the group.  Team mentoring involves several adutls working with small groups of young people, with an adult-to-youth ration no greather than one to four;  Peer mentoirng provides opportnity for ac aring youth to develop a guiding, teaching relationship with a younger person;  Ementoring (online mentoirng or telementoring)  connects one adult with one youth-connecting via the internet sometimes meeting in person (this can be great to use over the summer when school is o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5AF93E-7C2F-4766-B92C-9A64BA03D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oring can take place in agencies, churches, schools etc.  School is most common form.  Concept of summer bridge….email, letters, phone contact;  school/agency holding summer ev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ning in advance that all relationships are one year long to reduce disappointment of mentor not returning for year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D91B3C-D812-4EDE-99F1-3FE221257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consider a blend of the two.  Without the relationship task focused is less likely to work.  If going to work on a task, it needs to be a joint decision.  High School boys are most likely to feel like task oriented mentoring feels like punish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C5AEC1-91CA-41A2-812E-F341F82DC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ost extensive empirical examination of program practice effectiveness as part of the meta anla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3299ED-4597-4C14-AEEE-FA8D3E95E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ngle feature is responsible for positive outcomes.  The more in place the higher effectiv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3BC257-70B2-4A38-B1CE-FDF527140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BD01D7-D106-4BC2-A508-F80B38E50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1F1C3F-443A-4626-9346-3787A38CA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put up the triangle while teams report 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-on-one:  mentoring does not put “delinquent” youth into a group, which provides fertile ground for deviancy training (Dodge, Dishion, Lansford, 200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guided:  “when mentors tutor, teacher or parent…mentors who engage too quickly in academic activities, especially when not requested by you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Best Practices:  support provided to volunteers, training of staff, involvement of teachers, school staff and par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0D6564-78B9-4053-81D4-591D3C75D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eat site that has links to a Research in Action series  (offers research, pre/post;  start up info;  process info;  tools;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B56567-14C4-46CE-9882-3A28D6700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n opportunity to provide a disclaimer re: how students access interventions.  For example a student might access mentoring through a BIP (informed by the FBA) rather than the RRF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0CF5FF-C322-41EE-B86A-3034C43C2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E46E2A-8F8B-4518-8CEC-E7F7A4433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51A415-EB23-4EC8-B435-C05777AE4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engagement at all three tiers (ex. Universal: parent volunteers using school reinforcer; Secondary:  pushing teams to think about more than just consent but helping parents/families understand and be engaged in the intervention; Tertiary: Families need to be active member on the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population (race, free/reduced lunch, urban/rural, large/small buildings) Regardless of student population the percentage breakdowns remain the same.  Any behavior that is impacting more than 20% of the student body is a universal issu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team/all students, Secondary team/small groups/generic problem solving team/Tertiary team/formed for individual stu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importance of mental health, mental well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27E-B6F1-431C-A746-3D48FB47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CB7-9DA5-4327-905B-02A5387B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0FF-3DB4-46FD-892D-C7C5B4EF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716-D849-46EF-9F26-637E41B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D91-F10C-43DF-843E-521BF3E8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EA43-C082-415D-8F43-37B68702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7113-BD8F-4229-A129-7AF74F9C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6F78-2AEB-4304-8064-A728671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C9D-D3CD-4B4E-BA8C-C4876937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CD81-CA7B-46CD-8B01-53B40BFC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AB3-92BD-451B-8648-DA0662FA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4D09-F010-49DD-B2DC-EB0F515F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9A55-6A00-4022-ADDF-24D9B06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3C15-1BAE-4864-B7C1-CFA8E98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DB4F-3C26-4308-9B99-C9C181A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D206-E5F9-4647-9A90-596BFB0F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8F0-275A-4508-8E18-3060B011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DD9-ED32-43D6-8467-E8EB8EA4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98A-98D8-4114-8EE4-DF750A7F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7F3-1E34-43EC-ADBB-8E4911EA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8AE-57EC-4728-B87D-963E1E4D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9A9-5D59-4318-94EC-F1EBA177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F3C-6A34-4461-898B-8DF8A6D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9E3-E4E0-4A69-BB89-D8A0D421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7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57E0-740E-48E9-BDBC-B8AB2DFEE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13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9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" descr="white star"/>
          <p:cNvPicPr/>
          <p:nvPr/>
        </p:nvPicPr>
        <p:blipFill>
          <a:blip r:embed="rId2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10" name="Oval 22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23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16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18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" descr="white star"/>
          <p:cNvPicPr/>
          <p:nvPr/>
        </p:nvPicPr>
        <p:blipFill>
          <a:blip r:embed="rId3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17" name="Oval 21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Oval 24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6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ite star"/>
          <p:cNvPicPr/>
          <p:nvPr/>
        </p:nvPicPr>
        <p:blipFill>
          <a:blip r:embed="rId2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60" name="Oval 22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3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white star"/>
          <p:cNvPicPr/>
          <p:nvPr/>
        </p:nvPicPr>
        <p:blipFill>
          <a:blip r:embed="rId3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Oval 21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837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F804-0306-44DA-9295-9E6C3E14E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entoring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pbisillinois.org/" TargetMode="Externa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orary%20Internet%20Files/Content.IE5/Local%20Settings/Temporary%20Internet%20Files/robh/My%20Documents/ROBS%20DATA/Research%20Centers/07-08%20SWIS,%20SET,%20PBS%20Summaris/SWIS%20summary%2007-08%20(Majors%20Only).pptx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     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S200i:  Formalizing Tier 2/ Secondary Systems, Data, </a:t>
            </a:r>
            <a:br>
              <a:rPr sz="5400"/>
            </a:b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&amp; Practices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609120"/>
            <a:ext cx="7391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54a5"/>
                </a:solidFill>
                <a:latin typeface="Calibri"/>
                <a:ea typeface="Calibri"/>
              </a:rPr>
              <a:t>Tier 2/Secondary Series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838080" y="6324480"/>
            <a:ext cx="762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54a5"/>
                </a:solidFill>
                <a:latin typeface="Candara"/>
              </a:rPr>
              <a:t>Version 3.0, Rev. 11.2.2011                                                                        </a:t>
            </a:r>
            <a:r>
              <a:rPr b="1" lang="en-US" sz="1000" spc="-1" strike="noStrike">
                <a:solidFill>
                  <a:srgbClr val="3a54a5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3a54a5"/>
                </a:solidFill>
                <a:latin typeface="Candara"/>
              </a:rPr>
              <a:t>  </a:t>
            </a:r>
            <a:r>
              <a:rPr b="0" i="1" lang="en-US" sz="1000" spc="-1" strike="noStrike">
                <a:solidFill>
                  <a:srgbClr val="3a54a5"/>
                </a:solidFill>
                <a:latin typeface="Candara"/>
              </a:rPr>
              <a:t>This is a presentation of the Illinois PBIS Network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5800" y="152280"/>
            <a:ext cx="800100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-Tiered System of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cessary Conversations (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28954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2362320" y="4114800"/>
            <a:ext cx="990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362320" y="4648320"/>
            <a:ext cx="990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362320" y="5181480"/>
            <a:ext cx="990360" cy="68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up w.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6400800" y="4648320"/>
            <a:ext cx="1219320" cy="713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8380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1360" y="10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4267080" y="1523880"/>
            <a:ext cx="1905120" cy="642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blem Solv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6934320" y="1523880"/>
            <a:ext cx="1752480" cy="6426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rtiary System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4648320" y="4419720"/>
            <a:ext cx="838080" cy="10314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i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510552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7"/>
          <p:cNvSpPr/>
          <p:nvPr/>
        </p:nvSpPr>
        <p:spPr>
          <a:xfrm>
            <a:off x="670572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6960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286000" y="6019920"/>
            <a:ext cx="1143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ief 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7772400" y="4648320"/>
            <a:ext cx="1219320" cy="713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W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133720" y="1523880"/>
            <a:ext cx="1676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ary System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3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4"/>
          <p:cNvSpPr/>
          <p:nvPr/>
        </p:nvSpPr>
        <p:spPr>
          <a:xfrm>
            <a:off x="3886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5"/>
          <p:cNvSpPr/>
          <p:nvPr/>
        </p:nvSpPr>
        <p:spPr>
          <a:xfrm>
            <a:off x="62485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7"/>
          <p:cNvSpPr/>
          <p:nvPr/>
        </p:nvSpPr>
        <p:spPr>
          <a:xfrm>
            <a:off x="2133720" y="434340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84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78" stAng="-5400000" swAng="-5400000"/>
                <a:lnTo>
                  <a:pt x="0" y="10094"/>
                </a:lnTo>
                <a:arcTo wR="21600" hR="7478" stAng="10800000" swAng="-2663894"/>
                <a:lnTo>
                  <a:pt x="14400" y="21172"/>
                </a:lnTo>
                <a:lnTo>
                  <a:pt x="21600" y="16264"/>
                </a:lnTo>
                <a:lnTo>
                  <a:pt x="14400" y="10500"/>
                </a:lnTo>
                <a:lnTo>
                  <a:pt x="14400" y="14528"/>
                </a:lnTo>
                <a:arcTo wR="21600" hR="7478" stAng="8136106" swAng="2452726"/>
                <a:lnTo>
                  <a:pt x="333" y="8786"/>
                </a:lnTo>
                <a:arcTo wR="21600" hR="7478" stAng="-10588832" swAng="5188832"/>
                <a:close/>
              </a:path>
              <a:path fill="darkenLess" w="21600" h="21600">
                <a:moveTo>
                  <a:pt x="21600" y="0"/>
                </a:moveTo>
                <a:arcTo wR="21600" hR="7478" stAng="-5400000" swAng="-5400000"/>
                <a:lnTo>
                  <a:pt x="0" y="7478"/>
                </a:lnTo>
                <a:arcTo wR="21600" hR="7478" stAng="10800000" swAng="-211168"/>
                <a:lnTo>
                  <a:pt x="333" y="8786"/>
                </a:lnTo>
                <a:arcTo wR="21600" hR="7478" stAng="-10588832" swAng="5188832"/>
                <a:close/>
              </a:path>
            </a:pathLst>
          </a:custGeom>
          <a:solidFill>
            <a:srgbClr val="3a54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9"/>
          <p:cNvSpPr/>
          <p:nvPr/>
        </p:nvSpPr>
        <p:spPr>
          <a:xfrm>
            <a:off x="2057400" y="4343400"/>
            <a:ext cx="304920" cy="1219320"/>
          </a:xfrm>
          <a:custGeom>
            <a:avLst/>
            <a:gdLst>
              <a:gd name="textAreaLeft" fmla="*/ 40680 w 304920"/>
              <a:gd name="textAreaRight" fmla="*/ 264240 w 304920"/>
              <a:gd name="textAreaTop" fmla="*/ 234360 h 1219320"/>
              <a:gd name="textAreaBottom" fmla="*/ 81432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9" stAng="-5400000" swAng="-5400000"/>
                <a:lnTo>
                  <a:pt x="0" y="10271"/>
                </a:lnTo>
                <a:arcTo wR="21600" hR="8309" stAng="10800000" swAng="-2844741"/>
                <a:lnTo>
                  <a:pt x="14400" y="21125"/>
                </a:lnTo>
                <a:lnTo>
                  <a:pt x="21600" y="17598"/>
                </a:lnTo>
                <a:lnTo>
                  <a:pt x="14400" y="13121"/>
                </a:lnTo>
                <a:lnTo>
                  <a:pt x="14400" y="16142"/>
                </a:lnTo>
                <a:arcTo wR="21600" hR="8309" stAng="7955259" swAng="2687620"/>
                <a:lnTo>
                  <a:pt x="151" y="9290"/>
                </a:lnTo>
                <a:arcTo wR="21600" hR="8309" stAng="-10642879" swAng="5242879"/>
                <a:close/>
              </a:path>
              <a:path fill="darkenLess" w="21600" h="21600">
                <a:moveTo>
                  <a:pt x="21600" y="0"/>
                </a:moveTo>
                <a:arcTo wR="21600" hR="8309" stAng="-5400000" swAng="-5400000"/>
                <a:lnTo>
                  <a:pt x="0" y="8309"/>
                </a:lnTo>
                <a:arcTo wR="21600" hR="8309" stAng="10800000" swAng="-157121"/>
                <a:lnTo>
                  <a:pt x="151" y="9290"/>
                </a:lnTo>
                <a:arcTo wR="21600" hR="8309" stAng="-10642879" swAng="5242879"/>
                <a:close/>
              </a:path>
            </a:pathLst>
          </a:custGeom>
          <a:solidFill>
            <a:srgbClr val="3a54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533520" y="23623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8"/>
          <p:cNvSpPr/>
          <p:nvPr/>
        </p:nvSpPr>
        <p:spPr>
          <a:xfrm>
            <a:off x="380880" y="2362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s SW &amp; Class-wide sup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9"/>
          <p:cNvSpPr/>
          <p:nvPr/>
        </p:nvSpPr>
        <p:spPr>
          <a:xfrm>
            <a:off x="304920" y="22860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0"/>
          <p:cNvSpPr/>
          <p:nvPr/>
        </p:nvSpPr>
        <p:spPr>
          <a:xfrm>
            <a:off x="2057400" y="228600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Process data; determines overall intervention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1"/>
          <p:cNvSpPr/>
          <p:nvPr/>
        </p:nvSpPr>
        <p:spPr>
          <a:xfrm>
            <a:off x="4267080" y="2362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ing team; uses FBA/BIP process for one youth at a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2"/>
          <p:cNvSpPr/>
          <p:nvPr/>
        </p:nvSpPr>
        <p:spPr>
          <a:xfrm>
            <a:off x="6934320" y="220968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Process data; determines overall intervention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3"/>
          <p:cNvSpPr/>
          <p:nvPr/>
        </p:nvSpPr>
        <p:spPr>
          <a:xfrm>
            <a:off x="2057400" y="2209680"/>
            <a:ext cx="1676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4"/>
          <p:cNvSpPr/>
          <p:nvPr/>
        </p:nvSpPr>
        <p:spPr>
          <a:xfrm>
            <a:off x="4191120" y="2362320"/>
            <a:ext cx="2057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5"/>
          <p:cNvSpPr/>
          <p:nvPr/>
        </p:nvSpPr>
        <p:spPr>
          <a:xfrm>
            <a:off x="6934320" y="220968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iped Right Arrow 44"/>
          <p:cNvSpPr/>
          <p:nvPr/>
        </p:nvSpPr>
        <p:spPr>
          <a:xfrm>
            <a:off x="1600200" y="4191120"/>
            <a:ext cx="533520" cy="228600"/>
          </a:xfrm>
          <a:custGeom>
            <a:avLst/>
            <a:gdLst>
              <a:gd name="textAreaLeft" fmla="*/ 35640 w 533520"/>
              <a:gd name="textAreaRight" fmla="*/ 47664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533400" h="228600">
                <a:moveTo>
                  <a:pt x="0" y="57150"/>
                </a:moveTo>
                <a:lnTo>
                  <a:pt x="7144" y="57150"/>
                </a:lnTo>
                <a:lnTo>
                  <a:pt x="7144" y="171450"/>
                </a:lnTo>
                <a:lnTo>
                  <a:pt x="0" y="171450"/>
                </a:lnTo>
                <a:close/>
                <a:moveTo>
                  <a:pt x="14288" y="57150"/>
                </a:moveTo>
                <a:lnTo>
                  <a:pt x="28575" y="57150"/>
                </a:lnTo>
                <a:lnTo>
                  <a:pt x="28575" y="171450"/>
                </a:lnTo>
                <a:lnTo>
                  <a:pt x="14288" y="171450"/>
                </a:lnTo>
                <a:close/>
                <a:moveTo>
                  <a:pt x="35719" y="57150"/>
                </a:moveTo>
                <a:lnTo>
                  <a:pt x="419100" y="57150"/>
                </a:lnTo>
                <a:lnTo>
                  <a:pt x="419100" y="0"/>
                </a:lnTo>
                <a:lnTo>
                  <a:pt x="533400" y="114300"/>
                </a:lnTo>
                <a:lnTo>
                  <a:pt x="419100" y="228600"/>
                </a:lnTo>
                <a:lnTo>
                  <a:pt x="419100" y="171450"/>
                </a:lnTo>
                <a:lnTo>
                  <a:pt x="35719" y="171450"/>
                </a:lnTo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urved Up Arrow 45"/>
          <p:cNvSpPr/>
          <p:nvPr/>
        </p:nvSpPr>
        <p:spPr>
          <a:xfrm>
            <a:off x="5029200" y="5486400"/>
            <a:ext cx="2057400" cy="380880"/>
          </a:xfrm>
          <a:custGeom>
            <a:avLst/>
            <a:gdLst>
              <a:gd name="textAreaLeft" fmla="*/ 478440 w 2057400"/>
              <a:gd name="textAreaRight" fmla="*/ 1531080 w 2057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-3658355"/>
                <a:lnTo>
                  <a:pt x="21281" y="5400"/>
                </a:lnTo>
                <a:lnTo>
                  <a:pt x="20600" y="0"/>
                </a:lnTo>
                <a:lnTo>
                  <a:pt x="19281" y="5400"/>
                </a:lnTo>
                <a:lnTo>
                  <a:pt x="19781" y="5400"/>
                </a:lnTo>
                <a:arcTo wR="10050" hR="21600" stAng="1741645" swAng="3578693"/>
                <a:lnTo>
                  <a:pt x="10550" y="21573"/>
                </a:lnTo>
                <a:arcTo wR="10050" hR="21600" stAng="5479662" swAng="5320338"/>
                <a:close/>
              </a:path>
              <a:path fill="darkenLess"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79662"/>
                <a:lnTo>
                  <a:pt x="10550" y="21573"/>
                </a:lnTo>
                <a:arcTo wR="10050" hR="21600" stAng="5479662" swAng="5320338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urved Up Arrow 46"/>
          <p:cNvSpPr/>
          <p:nvPr/>
        </p:nvSpPr>
        <p:spPr>
          <a:xfrm>
            <a:off x="5029200" y="5486400"/>
            <a:ext cx="3505320" cy="731880"/>
          </a:xfrm>
          <a:custGeom>
            <a:avLst/>
            <a:gdLst>
              <a:gd name="textAreaLeft" fmla="*/ 807480 w 3505320"/>
              <a:gd name="textAreaRight" fmla="*/ 2606040 w 350532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5" hR="21600" stAng="10800000" swAng="-5400000"/>
                <a:lnTo>
                  <a:pt x="11082" y="21600"/>
                </a:lnTo>
                <a:arcTo wR="9955" hR="21600" stAng="5400000" swAng="-3644393"/>
                <a:lnTo>
                  <a:pt x="21284" y="5400"/>
                </a:lnTo>
                <a:lnTo>
                  <a:pt x="20473" y="0"/>
                </a:lnTo>
                <a:lnTo>
                  <a:pt x="19029" y="5400"/>
                </a:lnTo>
                <a:lnTo>
                  <a:pt x="19593" y="5400"/>
                </a:lnTo>
                <a:arcTo wR="9955" hR="21600" stAng="1755607" swAng="3554586"/>
                <a:lnTo>
                  <a:pt x="10518" y="21565"/>
                </a:lnTo>
                <a:arcTo wR="9955" hR="21600" stAng="5489807" swAng="5310193"/>
                <a:close/>
              </a:path>
              <a:path fill="darkenLess" w="21600" h="21600">
                <a:moveTo>
                  <a:pt x="0" y="0"/>
                </a:moveTo>
                <a:arcTo wR="9955" hR="21600" stAng="10800000" swAng="-5400000"/>
                <a:lnTo>
                  <a:pt x="11082" y="21600"/>
                </a:lnTo>
                <a:arcTo wR="9955" hR="21600" stAng="5400000" swAng="89807"/>
                <a:lnTo>
                  <a:pt x="10518" y="21565"/>
                </a:lnTo>
                <a:arcTo wR="9955" hR="21600" stAng="5489807" swAng="5310193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rved Up Arrow 45"/>
          <p:cNvSpPr/>
          <p:nvPr/>
        </p:nvSpPr>
        <p:spPr>
          <a:xfrm>
            <a:off x="3352680" y="5486400"/>
            <a:ext cx="1371600" cy="304920"/>
          </a:xfrm>
          <a:custGeom>
            <a:avLst/>
            <a:gdLst>
              <a:gd name="textAreaLeft" fmla="*/ 314280 w 1371600"/>
              <a:gd name="textAreaRight" fmla="*/ 101916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urved Up Arrow 45"/>
          <p:cNvSpPr/>
          <p:nvPr/>
        </p:nvSpPr>
        <p:spPr>
          <a:xfrm flipV="1" rot="21570600">
            <a:off x="3351240" y="4494240"/>
            <a:ext cx="1371600" cy="304920"/>
          </a:xfrm>
          <a:custGeom>
            <a:avLst/>
            <a:gdLst>
              <a:gd name="textAreaLeft" fmla="*/ 318960 w 1371600"/>
              <a:gd name="textAreaRight" fmla="*/ 102096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-3658355"/>
                <a:lnTo>
                  <a:pt x="21281" y="5400"/>
                </a:lnTo>
                <a:lnTo>
                  <a:pt x="20600" y="0"/>
                </a:lnTo>
                <a:lnTo>
                  <a:pt x="19281" y="5400"/>
                </a:lnTo>
                <a:lnTo>
                  <a:pt x="19781" y="5400"/>
                </a:lnTo>
                <a:arcTo wR="10050" hR="21600" stAng="1741645" swAng="3578693"/>
                <a:lnTo>
                  <a:pt x="10550" y="21573"/>
                </a:lnTo>
                <a:arcTo wR="10050" hR="21600" stAng="5479662" swAng="5320338"/>
                <a:close/>
              </a:path>
              <a:path fill="darkenLess"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79662"/>
                <a:lnTo>
                  <a:pt x="10550" y="21573"/>
                </a:lnTo>
                <a:arcTo wR="10050" hR="21600" stAng="5479662" swAng="5320338"/>
                <a:close/>
              </a:path>
            </a:pathLst>
          </a:custGeom>
          <a:solidFill>
            <a:srgbClr val="3a54a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0" y="6613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pt. 1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304920" y="1523880"/>
            <a:ext cx="121896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vers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228600" y="4191120"/>
            <a:ext cx="12193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vers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87360" y="1519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econdary Systems Planning Team  Meeting Agenda 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youth in CICO (</a:t>
            </a:r>
            <a:r>
              <a:rPr b="0" lang="en-US" sz="2800" spc="-1" strike="noStrike">
                <a:solidFill>
                  <a:srgbClr val="9966ff"/>
                </a:solidFill>
                <a:latin typeface="Calibri"/>
              </a:rPr>
              <a:t>record on T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youth responding (record on TT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 Send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Reverse Request for Assista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achers of all youth not respo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new youth potentially entering intervention (share # of RFAs, Universal Screening info and/or # of youth who met the data-based decision-rule cut offs for Secondary support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S/AIG, Group with Individual Feature &amp; Brief FBA/B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f less than 70% of youth are responding to any of the interventions, the Secondary Systems team should review the </a:t>
            </a:r>
            <a:r>
              <a:rPr b="0" i="1" lang="en-US" sz="2800" spc="-1" strike="noStrike">
                <a:solidFill>
                  <a:srgbClr val="9966ff"/>
                </a:solidFill>
                <a:latin typeface="Calibri"/>
              </a:rPr>
              <a:t>integrity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the intervention and </a:t>
            </a:r>
            <a:r>
              <a:rPr b="0" i="1" lang="en-US" sz="2800" spc="-1" strike="noStrike">
                <a:solidFill>
                  <a:srgbClr val="9966ff"/>
                </a:solidFill>
                <a:latin typeface="Calibri"/>
              </a:rPr>
              <a:t>make adjust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22400" y="0"/>
            <a:ext cx="886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22400" y="0"/>
            <a:ext cx="886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MING: Review Level I of Guiding Ques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263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oordinator vs. Facilitator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s and/or oversees the specific interventions such as CICO, S/AIG &amp; Group with Individual Fea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include: scheduling meetings, review &amp; collect data to share during team meeting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provides intervention support services to youth/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include: meeting with students for CICO, runn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using non-clinical staff for running simple secondary intervention such as CICO and S/AIG’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econdary interventions are skill based interventions that  do not need to be provided by clinician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se interventions are used to provide addi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 for students to see, practice and internalize Universal expec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using clinical based staff for higher level interventions such as simple/complex FBA/BIP &amp; WRAP’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43000" y="609480"/>
            <a:ext cx="567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143000" y="314280"/>
            <a:ext cx="7772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who can run simple Secondary Interventions?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A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rar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ommunity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imple Secondary Interven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-in Check-out (covered in S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vered tod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/Academic Instructional Grou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ized C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9"/>
          <p:cNvSpPr/>
          <p:nvPr/>
        </p:nvSpPr>
        <p:spPr>
          <a:xfrm>
            <a:off x="644400" y="2819520"/>
            <a:ext cx="209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107120" y="2666880"/>
            <a:ext cx="165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804480" y="588312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199160" y="227160"/>
            <a:ext cx="19195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"/>
          <p:cNvGrpSpPr/>
          <p:nvPr/>
        </p:nvGrpSpPr>
        <p:grpSpPr>
          <a:xfrm>
            <a:off x="2819520" y="1371600"/>
            <a:ext cx="4267080" cy="4511520"/>
            <a:chOff x="2819520" y="1371600"/>
            <a:chExt cx="4267080" cy="4511520"/>
          </a:xfrm>
        </p:grpSpPr>
        <p:sp>
          <p:nvSpPr>
            <p:cNvPr id="280" name="Oval 2"/>
            <p:cNvSpPr/>
            <p:nvPr/>
          </p:nvSpPr>
          <p:spPr>
            <a:xfrm>
              <a:off x="3733920" y="3292560"/>
              <a:ext cx="2362320" cy="2209680"/>
            </a:xfrm>
            <a:prstGeom prst="ellipse">
              <a:avLst/>
            </a:prstGeom>
            <a:noFill/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"/>
            <p:cNvSpPr/>
            <p:nvPr/>
          </p:nvSpPr>
          <p:spPr>
            <a:xfrm>
              <a:off x="4419720" y="2149200"/>
              <a:ext cx="2286000" cy="2209680"/>
            </a:xfrm>
            <a:prstGeom prst="ellipse">
              <a:avLst/>
            </a:prstGeom>
            <a:noFill/>
            <a:ln w="63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"/>
            <p:cNvSpPr/>
            <p:nvPr/>
          </p:nvSpPr>
          <p:spPr>
            <a:xfrm>
              <a:off x="2819520" y="1371600"/>
              <a:ext cx="4267080" cy="4511520"/>
            </a:xfrm>
            <a:prstGeom prst="ellipse">
              <a:avLst/>
            </a:prstGeom>
            <a:noFill/>
            <a:ln w="63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5"/>
            <p:cNvSpPr/>
            <p:nvPr/>
          </p:nvSpPr>
          <p:spPr>
            <a:xfrm>
              <a:off x="3124080" y="2149200"/>
              <a:ext cx="2209680" cy="2209680"/>
            </a:xfrm>
            <a:prstGeom prst="ellipse">
              <a:avLst/>
            </a:prstGeom>
            <a:noFill/>
            <a:ln w="63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6"/>
            <p:cNvSpPr/>
            <p:nvPr/>
          </p:nvSpPr>
          <p:spPr>
            <a:xfrm rot="18340800">
              <a:off x="3069720" y="28879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7"/>
            <p:cNvSpPr/>
            <p:nvPr/>
          </p:nvSpPr>
          <p:spPr>
            <a:xfrm>
              <a:off x="3953520" y="4594320"/>
              <a:ext cx="19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 rot="2905200">
              <a:off x="5370840" y="282132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3"/>
            <p:cNvSpPr/>
            <p:nvPr/>
          </p:nvSpPr>
          <p:spPr>
            <a:xfrm>
              <a:off x="3924360" y="160020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3263760" y="22860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ompetence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8044200" y="0"/>
            <a:ext cx="872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٭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09480" y="4838760"/>
            <a:ext cx="223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“What is a systems Approach in school-wide PBS?”OSEP Technical Assistance on Positive Behavioral Interventions and Supports. Accessed at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.Pbis.org/schoolwid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raining Behavioral Expecta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143000"/>
          <a:ext cx="8458200" cy="5619600"/>
        </p:xfrm>
        <a:graphic>
          <a:graphicData uri="http://schemas.openxmlformats.org/drawingml/2006/table">
            <a:tbl>
              <a:tblPr/>
              <a:tblGrid>
                <a:gridCol w="2438280"/>
                <a:gridCol w="601992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XPEC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TRAINING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RESPON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ke yourself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omfortable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amp; take care of your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 question/activity in group time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befor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cussing “other”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Ask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RESPECT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rn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ell phon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beepers, and pagers “off” or to “vibrat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ontribute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here po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PREP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Follow up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 tasks for next trainin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ke (and Pass) note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(use Action Pl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throughout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onsider Use of Daily Progress Report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64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s transference and generalization of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youth using new skills in actual settings (not just while in interven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pting of replacem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ment of replacem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feedback and 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onsider How You Will In-service Staff  re: Secondary Interventions?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20271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you explain/model the skills that are outlined for each interven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teachers need to kno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 student gets into the intervention (Decision r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long a student will participate  (Decision r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ransference of the skill/s will be mea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use Daily Progress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role in teaching, pre-correcting, shaping and reinforcing noted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questions/conc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3"/>
          <p:cNvSpPr/>
          <p:nvPr/>
        </p:nvSpPr>
        <p:spPr>
          <a:xfrm>
            <a:off x="2133720" y="1143000"/>
            <a:ext cx="4800600" cy="53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ICO Card  (PALS Point Sheet)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133720" y="2133720"/>
          <a:ext cx="4800600" cy="3857400"/>
        </p:xfrm>
        <a:graphic>
          <a:graphicData uri="http://schemas.openxmlformats.org/drawingml/2006/table">
            <a:tbl>
              <a:tblPr/>
              <a:tblGrid>
                <a:gridCol w="1039680"/>
                <a:gridCol w="939960"/>
                <a:gridCol w="942840"/>
                <a:gridCol w="939960"/>
                <a:gridCol w="938160"/>
              </a:tblGrid>
              <a:tr h="99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= Great Jo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= Did 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= Toug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per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 Oth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r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ro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tud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orat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Box 7"/>
          <p:cNvSpPr/>
          <p:nvPr/>
        </p:nvSpPr>
        <p:spPr>
          <a:xfrm>
            <a:off x="2438280" y="5969160"/>
            <a:ext cx="411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ily Goal: ­­­_______/56                             Daily Score: ________/56   Comments: State briefly any achievements that demonstrate progres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ent Signature: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BW-bulldog"/>
          <p:cNvPicPr/>
          <p:nvPr/>
        </p:nvPicPr>
        <p:blipFill>
          <a:blip r:embed="rId1"/>
          <a:stretch/>
        </p:blipFill>
        <p:spPr>
          <a:xfrm>
            <a:off x="2362320" y="1447920"/>
            <a:ext cx="806400" cy="635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1"/>
          <p:cNvSpPr/>
          <p:nvPr/>
        </p:nvSpPr>
        <p:spPr>
          <a:xfrm>
            <a:off x="3276720" y="1447920"/>
            <a:ext cx="327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_________________________________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­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roo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HPIM2446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Guiding Questions Example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21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How are students identified as in need of Simple Tier 2 Interventions (S/AIG, individualized CICO &amp; Mentoring)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Calibri"/>
              </a:rPr>
              <a:t>Student/s receive less than 80% on DPR over 4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at are the data sources used to identify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-based decision rules for identific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Data source #1: 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Daily Progress Repor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 for Inclusion in Intervention: __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Less than 80%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fram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After 4 weeks of interven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Request for Assistance enters youth (circle one)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1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Yes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c00b3"/>
                </a:solidFill>
                <a:latin typeface="Calibri"/>
              </a:rPr>
              <a:t>This would be the Reverse Request for As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reak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2" descr="j0433182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heck on Assump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already ha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 one type of ‘group’ being offered in your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teachers sometimes ‘inquire’ about the purpose/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format of these grou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 “What do you DO with him in group? He said he played Connect Four today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d like to be able to give teachers concrete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student progr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really just want to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impr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r current group support ‘system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ocial and Academic Instructional Group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ocial/Academic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56996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yp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kills-buil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ou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Pro-soci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Problem-solv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Academic Behavior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if involves use of Daily Progres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often the skill groups facilitated by Social Workers, Counselors &amp; Psych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can consider other providers : Teacher Assistants, Behavior Interventionist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ocial/Academic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into groups should be based on youths’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reaction to lif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mstance not existence of life circumstances (ex. fighting with peers, not family divor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taught are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comm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ross youth in same group (ex. use your wo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hould measure if skills are being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U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natural settings, not in counseling sessions (transference of skills to classroom, café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eachers, family etc.) should have input into success of intervention (ex. Daily Progress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PBIS Supports the Illinois Professional Teaching Standard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9807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Development and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er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ning for Instru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ing Enviro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Delive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f4d387"/>
              </a:buClr>
              <a:buFont typeface="Calibri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76920" y="19807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9120" indent="-51912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 Relationshi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ion and Profession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Condu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62120" y="5791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sbe.net/profprep/PDFs/ipt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hoosing or Designing 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 Group Interven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0880" y="16761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&amp;  modify lessons from pre-packaged material based on the skill needed for th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lready created universal behavior lesson plans or create lesson plans (Cool Tools) to directly teach replacement behavi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AIG Template Considera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/Typ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-social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-solving ski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ademic Behavior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se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urpos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skills that need to be ta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ly appropriate Behavior Lesson Plans/Curriculum that addresses skill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55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reate Your Own Lesson Plans: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ching Behavioral Expecta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havior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Specif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servable student  behaviors (ru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stud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Students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Reinfor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teps of a Behavioral Lesson Plan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pectations &amp; why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Model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non-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 Students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07800" y="456840"/>
            <a:ext cx="7326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 Packaged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47920" y="152388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Step (Grades Pre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ing, Feeling, Behaving (Grades 1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ugh Kids Social Skills (Grades 3-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er Social Skills Curriculum (Grades 6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treaming  (Grades PreK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&amp; Think Social Skills (Grades Pre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sport (Grades 1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problem Solve  (Grades PreK-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gression Replaceme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85800" y="5772240"/>
            <a:ext cx="8001000" cy="32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4d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of above examples could be used to develop universal behavior lesson pla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15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3 Keys to Successful S/AIG’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62120" y="1467000"/>
            <a:ext cx="802008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ve a Roadmap/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lls that are taught need to be pinpointed before choosing “curriculum” and are clear enough that teachers can pre-correct, shape and reinforce for generalization in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“Working on expressing feelings” equates to “Using ‘I messages’” on DP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 attention if you are choosing to use pieces of a packaged curriculum rather than your already created universal behavior lesson pl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300"/>
              </a:spcBef>
              <a:buClr>
                <a:srgbClr val="f4d387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iate between stand-alone curriculum and curriculum made to have lessons build upon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Stand alone curriculum 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kills Stre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econd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Curriculum that builds upon previous lessons – use with ca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f4d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   Build S/AIGs on top of a strong universal curri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4" descr="MC900433903[1]"/>
          <p:cNvPicPr/>
          <p:nvPr/>
        </p:nvPicPr>
        <p:blipFill>
          <a:blip r:embed="rId1"/>
          <a:stretch/>
        </p:blipFill>
        <p:spPr>
          <a:xfrm>
            <a:off x="7924680" y="457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cedural Considera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s, if nece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Norms – ie. expectations of group, aligned to school-wide expec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” with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410080" y="58672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y &amp; Corey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cademic Behavior Skill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17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iste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king for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aying Thank Yo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ringing Materials to Cla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llowing Instru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ing Assign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ibuting to Discuss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ffering Help to an Adul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king a Qu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gnoring Distra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king Corr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ciding on Something to D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tting a Goal</a:t>
            </a:r>
            <a:br>
              <a:rPr sz="18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3430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Getting Organized Without Losing 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mework Check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fter School Schedu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9 Great Reasons to Use a Student Pl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-Social Skills - Friendship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ing Yoursel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ginning a Conver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ing a Conver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ining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ying a Ga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ing a Fav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ering Help to a Classm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ing a Compli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pting a Compli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gesting an Activ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ologizing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rong Kids (Grades 3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My Feel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s of Showing Feel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blem-Solving Skill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61760" y="159984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nowing Your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Your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cognizing Another's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ing Understanding of Another's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Concern for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Your Ang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Another's Ang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Affec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Fea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warding Yoursel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ing Self-Contro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sking Permiss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ponding to Teas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voiding Troubl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aying Out of Fight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blem Solv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cepting Consequenc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an Accusa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1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gotiating</a:t>
            </a:r>
            <a:br>
              <a:rPr sz="1600"/>
            </a:b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he Peace Curri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ositive Self-Talk to Control A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mework #3 Anger Control: Consequences for Your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ing Out of F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200 Objective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Tier 2/Secondary system designed in S100i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 Learn how to use data for decision making and on-going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ess monitoring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  Identify Students for Tier 2/Secondary interventions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  Review critical features and processes of Check-in  Check-out, Social/Academic  Instructional Groups and Mentoring (Check-N-Connect)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Calibri"/>
              </a:rPr>
              <a:t>Action Pl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Design the actual interventions for your school’s Tier 2/Secondary continuum (specifically Social/Academic Instructional Groups and Mentoring)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-961920" y="-13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-961920" y="-9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295280" y="205200"/>
            <a:ext cx="762012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 Daily Progres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NAME:______________________  DATE: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s please indicate YES (2), SO-SO (1), or NO (0) regarding the student’s achievement to the following goal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85800" y="1442880"/>
          <a:ext cx="8077320" cy="4577040"/>
        </p:xfrm>
        <a:graphic>
          <a:graphicData uri="http://schemas.openxmlformats.org/drawingml/2006/table">
            <a:tbl>
              <a:tblPr/>
              <a:tblGrid>
                <a:gridCol w="1833480"/>
                <a:gridCol w="1560600"/>
                <a:gridCol w="1560600"/>
                <a:gridCol w="1558800"/>
                <a:gridCol w="1563840"/>
              </a:tblGrid>
              <a:tr h="5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EC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st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 rd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th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Sa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your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deep breat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1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Respect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Keep arm’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#2 voice level when up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Ask for brea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Self-monitor with D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tal Poi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acher Initi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52"/>
          <p:cNvSpPr/>
          <p:nvPr/>
        </p:nvSpPr>
        <p:spPr>
          <a:xfrm>
            <a:off x="152280" y="5949000"/>
            <a:ext cx="861084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dapted from Grant Middle School STAR C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3"/>
          <p:cNvSpPr/>
          <p:nvPr/>
        </p:nvSpPr>
        <p:spPr>
          <a:xfrm>
            <a:off x="-963000" y="7968240"/>
            <a:ext cx="588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Responding to Problem Behavior in Schools: The Behavior Education Program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 by Crone, Horner, and Hawk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MING: Review Level II of Guiding Ques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349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j0429871"/>
          <p:cNvPicPr/>
          <p:nvPr/>
        </p:nvPicPr>
        <p:blipFill>
          <a:blip r:embed="rId1"/>
          <a:stretch/>
        </p:blipFill>
        <p:spPr>
          <a:xfrm>
            <a:off x="2286000" y="190512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heck-in Check-out</a:t>
            </a:r>
            <a:br>
              <a:rPr sz="4400"/>
            </a:b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with Individualized Feature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000" spc="-1" strike="noStrike">
                <a:solidFill>
                  <a:srgbClr val="3a54a5"/>
                </a:solidFill>
                <a:latin typeface="Cambria"/>
              </a:rPr>
              <a:t>ized</a:t>
            </a:r>
            <a:r>
              <a:rPr b="1" lang="en-US" sz="40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n intervention that adds support to generic C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 choose these more individualized options on the reverse request for assistance (RRF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 are given the option to choose from these features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ICO was not enough support for a stud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4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760" y="9140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7680" y="159984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are pre-determined and communicated to all stakehold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systems team designs the options for the buil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 &amp;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st of specified options teachers can choose from listed on  the reverse request for assist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10080" y="914040"/>
            <a:ext cx="2438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79700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the goal line one child at a t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or adding a goal for one chi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the goals on the Daily Progress Report for one child or a group of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meeting with the specialized staff and the teacher changing a student’s DP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4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69640" y="1066320"/>
            <a:ext cx="233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7680" y="175212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after generic CICO has been tried for a set time (for example 4-6 weeks) and the student has not met the pre-determined goal se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for individualizing the intervention are generic and qui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s the same DPR as used in generic 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867280" y="1112760"/>
            <a:ext cx="243864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67000" y="1294920"/>
            <a:ext cx="377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adult changing/ adding goals or D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or adding a goal for a group of kids (homework, grades, or a specific behavio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the DPR card because there are individualized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CICO with Individual</a:t>
            </a:r>
            <a:r>
              <a:rPr b="1" i="1" lang="en-US" sz="40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n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a check in time before/after lunch with secretary i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tw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accompanies student to check in at beginning of day and check out at end of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thre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in with supportive adult prior to a difficult clas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When would a child have 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goals that are specific to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 him/her?</a:t>
            </a:r>
            <a:br>
              <a:rPr sz="4000"/>
            </a:b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n intervention that is design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Functional Behavioral Assessment is completed and created with the problem solving team as part of a Behavior Intervention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tervention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 to the individual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109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217160" y="1036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7680" y="202680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in place after two, tier 2 interventions have been unsuccessful and the problem solving team has conducted an FB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to the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PR reflects the individualized goals determined in B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48160" y="1036440"/>
            <a:ext cx="2438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67000" y="1828800"/>
            <a:ext cx="377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adult changing/adding goals or D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or adding a goal for a group of kids (homework, grades or a specific behavi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e prior to participating in “generic” 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110952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1765800" y="39600"/>
            <a:ext cx="55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4a5"/>
                </a:solidFill>
                <a:latin typeface="Cambria"/>
              </a:rPr>
              <a:t>Youth would have goals specific to him/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4a5"/>
                </a:solidFill>
                <a:latin typeface="Cambria"/>
              </a:rPr>
              <a:t>What it is and What it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genda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30-9: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Secondary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15-10: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Secondary Interventions: Critical Fea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15-10:3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30-11:30             Social/Academic Instructional Grou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30-12:15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15-12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ized C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45-1:4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ersonal Groups &amp; Mentor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45-2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0-2:30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ing Questions: Choose 1 intervention &amp; start working on 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30-2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Action Plan review, report out on progress &amp; next ste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45-3: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/concerns/technical assist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An example of youth with goals specific to him/her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nge goal l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t Summerishere Middle school are expected to meet 80% on their DPR over the course of four weeks.  However, in Jaylo’s FBA/BIP meeting the team decided to lower her goal line to 70% for the next two wee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d goals and have a child specific d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also determined in Jaylo’s BIP meeting they would add the goal:  walks in hallway with hands and feet to self.  The CICO coordinator will add this goal to her DPR and have them available at the morning check in s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109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a54a5"/>
                </a:solidFill>
                <a:latin typeface="Cambria"/>
              </a:rPr>
              <a:t>Mentoring</a:t>
            </a:r>
            <a:endParaRPr b="0" lang="en-US" sz="46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Mentoring Fueled from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ce that positive relationships with extra-familial adults promotes resiliency among youth from at-risk background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odes, 19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C:\Users\Ami Flammini\AppData\Local\Microsoft\Windows\Temporary Internet Files\Content.IE5\OCVTRXJL\MP900448748[1].jpg"/>
          <p:cNvPicPr/>
          <p:nvPr/>
        </p:nvPicPr>
        <p:blipFill>
          <a:blip r:embed="rId1"/>
          <a:stretch/>
        </p:blipFill>
        <p:spPr>
          <a:xfrm>
            <a:off x="4724280" y="240516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5 Types of Mentoring</a:t>
            </a:r>
            <a:br>
              <a:rPr sz="4400"/>
            </a:br>
            <a:r>
              <a:rPr b="0" lang="en-US" sz="2000" spc="-1" strike="noStrike">
                <a:solidFill>
                  <a:srgbClr val="3a54a5"/>
                </a:solidFill>
                <a:latin typeface="Cambria"/>
              </a:rPr>
              <a:t>Elements of Effective Practice (appendix section iv)</a:t>
            </a:r>
            <a:endParaRPr b="0" lang="en-US" sz="2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8080" y="1951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One-to-One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chool Based Mentoring  SBM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SBM) is most commo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mentor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owth has outpaced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ntoring viewed as privilege and rewar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lengthen matches needs to happen early in school year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e year commitment often norm in SBM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BBBS SBM and CIS SMILE study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ion with mentor and school staff, adequate access to resources and space are linked to match quality &amp; longevity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Herrera et al., 2007; karcher 2005a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d of match is CRUCIAL st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01800" y="3045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ctivities of Mentoring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4094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s &amp;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evelopmental)             (Instrumen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archer et al. 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C:\Users\Ami Flammini\AppData\Local\Microsoft\Windows\Temporary Internet Files\Content.IE5\0736J39Y\MP900409026[1].jpg"/>
          <p:cNvPicPr/>
          <p:nvPr/>
        </p:nvPicPr>
        <p:blipFill>
          <a:blip r:embed="rId1"/>
          <a:stretch/>
        </p:blipFill>
        <p:spPr>
          <a:xfrm>
            <a:off x="5257800" y="303228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Users\Ami Flammini\AppData\Local\Microsoft\Windows\Temporary Internet Files\Content.IE5\FM4WMM4K\MP900400224[1].jpg"/>
          <p:cNvPicPr/>
          <p:nvPr/>
        </p:nvPicPr>
        <p:blipFill>
          <a:blip r:embed="rId2"/>
          <a:stretch/>
        </p:blipFill>
        <p:spPr>
          <a:xfrm>
            <a:off x="685800" y="3048120"/>
            <a:ext cx="38098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3"/>
          <p:cNvCxnSpPr/>
          <p:nvPr/>
        </p:nvCxnSpPr>
        <p:spPr>
          <a:xfrm flipH="1">
            <a:off x="2584080" y="2209320"/>
            <a:ext cx="534240" cy="76284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arrow" w="med"/>
          </a:ln>
        </p:spPr>
      </p:cxnSp>
      <p:cxnSp>
        <p:nvCxnSpPr>
          <p:cNvPr id="391" name="Straight Arrow Connector 6"/>
          <p:cNvCxnSpPr/>
          <p:nvPr/>
        </p:nvCxnSpPr>
        <p:spPr>
          <a:xfrm>
            <a:off x="6095880" y="2209320"/>
            <a:ext cx="496080" cy="83916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87360" y="3805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Meta Analysis 55 Evaluations</a:t>
            </a:r>
            <a:br>
              <a:rPr sz="4000"/>
            </a:br>
            <a:r>
              <a:rPr b="0" lang="en-US" sz="20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(Dubois, Holloway, Valentine &amp; Cooper, 2002).</a:t>
            </a:r>
            <a:br>
              <a:rPr sz="1100"/>
            </a:br>
            <a:endParaRPr b="0" lang="en-US" sz="2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benefit of program participation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ver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 effects significantly better when best practices i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th from backgrounds of environmental risk and disadvantage benefit the m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What Makes Mentoring Work</a:t>
            </a:r>
            <a:br>
              <a:rPr sz="4400"/>
            </a:br>
            <a:r>
              <a:rPr b="0" lang="en-US" sz="1600" spc="-1" strike="noStrike">
                <a:solidFill>
                  <a:srgbClr val="3a54a5"/>
                </a:solidFill>
                <a:latin typeface="Cambria"/>
              </a:rPr>
              <a:t>Rhodes/Research Cornder at Mentoring.org</a:t>
            </a:r>
            <a:endParaRPr b="0" lang="en-US" sz="16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ing reasonably intensive screening of potential men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matches based on interests that both the mentor and mentee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more than 6 hours of training for men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ing post-match training and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Predictive of Stronger Positive Effect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493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s for monitoring program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ommunity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mentors with backgrounds in helping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established expectations for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going (post-match) training for men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d activities for mentors and y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for parent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661120" y="5943600"/>
            <a:ext cx="427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L Dubois, Ph.D., University of Illinois Chicag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in Action, issu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est Practices</a:t>
            </a:r>
            <a:r>
              <a:rPr b="1" lang="en-US" sz="44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3a54a5"/>
                </a:solidFill>
                <a:latin typeface="Cambria"/>
              </a:rPr>
              <a:t>(Dubois, Holloway, Valentine, Cooper) 2002</a:t>
            </a:r>
            <a:endParaRPr b="0" lang="en-US" sz="1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-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for men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ent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frequ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length of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Introductions and Acknowledgment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of state, district, school name, roles of people here today, how would you characterize your school and/or your te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been your successes with implementing a Secondary Systems Team and/or with Check-in Check-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a54a5"/>
                </a:solidFill>
                <a:latin typeface="Cambria"/>
              </a:rPr>
              <a:t>Understanding the Evidence Supporting School-based Mentoring</a:t>
            </a:r>
            <a:br>
              <a:rPr sz="1800"/>
            </a:br>
            <a:r>
              <a:rPr b="1" lang="en-US" sz="1800" spc="-1" strike="noStrike">
                <a:solidFill>
                  <a:srgbClr val="3a54a5"/>
                </a:solidFill>
                <a:latin typeface="Cambria"/>
              </a:rPr>
              <a:t>Cautions &amp; Caveats</a:t>
            </a:r>
            <a:br>
              <a:rPr sz="1800"/>
            </a:br>
            <a:r>
              <a:rPr b="0" lang="en-US" sz="1800" spc="-1" strike="noStrike">
                <a:solidFill>
                  <a:srgbClr val="3a54a5"/>
                </a:solidFill>
                <a:latin typeface="Cambria"/>
              </a:rPr>
              <a:t>Karcher, 2010</a:t>
            </a:r>
            <a:br>
              <a:rPr sz="1800"/>
            </a:br>
            <a:endParaRPr b="0" lang="en-US" sz="18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685800" y="2197080"/>
            <a:ext cx="7924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-on-One mentoring minimizes deviancy train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hion, McCord &amp; Poulin, 1999;  Dodge, Dishion &amp; Lansford, 2006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sguided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M. Hansen &amp; Larson, 2007;  K. Hansen &amp; Corlett, 2007;  Karcher, 2004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ortance of Best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rcher, 201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Looking for mentoring resources?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1"/>
              </a:rPr>
              <a:t>www.mentoring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TEAMING: Review Level III of Guiding Ques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406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reak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2" descr="j0433182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onsider this…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6176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th A has received his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fice discipline referral so he begins CICO.  He is in CICO for four weeks and has not yet met the goal that all students have, 80% of points on DPR over four weeks.  The reverse request for assistance is given to Youth A’s teacher and he chooses CICO  with individualized features, more specifically he chooses to add a check-in with the office secretary between lunch and recess.  The individualized CICO continues for four weeks and youth A has not yet met the goal that all students have, 80% of points on the DPR over four weeks.  A FBA is completed and, in addition to other function-based strategies, the problem solving team decides to add a mentor through the local Boys and Girls school progra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66ff"/>
                </a:solidFill>
                <a:latin typeface="Cambria"/>
              </a:rPr>
              <a:t>Activity: Time 20 minutes </a:t>
            </a:r>
            <a:br>
              <a:rPr sz="4200"/>
            </a:br>
            <a:r>
              <a:rPr b="0" lang="en-US" sz="4200" spc="-1" strike="noStrike">
                <a:solidFill>
                  <a:srgbClr val="3a54a5"/>
                </a:solidFill>
                <a:latin typeface="Cambria"/>
              </a:rPr>
              <a:t>Using the Guiding Questions</a:t>
            </a:r>
            <a:endParaRPr b="0" lang="en-US" sz="42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7720" y="202716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oose one type of intervention to create or impro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ew &amp; answer questions to find strengths and nee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on plan 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Report Out  </a:t>
            </a:r>
            <a:br>
              <a:rPr sz="4400"/>
            </a:b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gress &amp; Next Step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417" name="Picture 8" descr="MPj04392390000[1]"/>
          <p:cNvPicPr/>
          <p:nvPr/>
        </p:nvPicPr>
        <p:blipFill>
          <a:blip r:embed="rId1"/>
          <a:stretch/>
        </p:blipFill>
        <p:spPr>
          <a:xfrm>
            <a:off x="2895480" y="220968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Resources available at: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Calibri"/>
              </a:rPr>
              <a:t>www.pbisillinois.org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Follow-up TA Support for S200i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Go-to-Meetings will be offered 3 – 6 weeks after this training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1"/>
              </a:rPr>
              <a:t>www.pbisillinois.org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view dates and reg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urse name is STA200.1i:  Technical Assistance on Secondary Interventions (CICO, S/AIG, Mentoring/Cn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  </a:t>
            </a: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Evaluation and CPDU Process</a:t>
            </a:r>
            <a:br>
              <a:rPr sz="4400"/>
            </a:br>
            <a:r>
              <a:rPr b="0" lang="en-US" sz="2800" spc="-1" strike="noStrike">
                <a:solidFill>
                  <a:srgbClr val="3a54a5"/>
                </a:solidFill>
                <a:latin typeface="Cambria"/>
                <a:ea typeface="MS PGothic"/>
              </a:rPr>
              <a:t>  </a:t>
            </a:r>
            <a:br>
              <a:rPr sz="2800"/>
            </a:br>
            <a:r>
              <a:rPr b="1" lang="en-US" sz="2900" spc="-1" strike="noStrike">
                <a:solidFill>
                  <a:srgbClr val="009999"/>
                </a:solidFill>
                <a:latin typeface="Cambria"/>
                <a:ea typeface="MS PGothic"/>
              </a:rPr>
              <a:t>For individuals who registered through Cvent</a:t>
            </a:r>
            <a:endParaRPr b="0" lang="en-US" sz="29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533160" y="20574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ll registrants will receive an emai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ays after the training asking them to complete an evaluation using the link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By clicking on the link, registrants are to complete the evaluation by following the promp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Once the evaluation is completed, an additional email will automatically be generated thanking the registrant for their time and offering the CPDU link for the session they just 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en registrant clicks on the CPDU link, the form shows up on the screen in PDF format and is pri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09480" y="1920960"/>
            <a:ext cx="37576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3/Tertiary Intervention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         1-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dividua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ssessment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gh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29160" y="1920960"/>
            <a:ext cx="43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1-5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3/Tertiary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dividua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Assessment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tense, durable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9480" y="2975040"/>
            <a:ext cx="34768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2/Secondary Interventions      5-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me students (at-ri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gh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mall group inter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me individu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529160" y="2971800"/>
            <a:ext cx="4354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5-15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Tier 2/Secondary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ome students (at-ri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High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mall group inter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ome individu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4619520"/>
            <a:ext cx="327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1/Universal Interventions  80-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l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eventive, pro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529160" y="4619520"/>
            <a:ext cx="4354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80-90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1/Universal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All settings, al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Preventive, pro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54a5"/>
                </a:solidFill>
                <a:latin typeface="Cambria"/>
              </a:rPr>
              <a:t>School-Wide Systems for Student Success: A Response to Intervention (RtI) Model</a:t>
            </a:r>
            <a:endParaRPr b="0" lang="en-US" sz="32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9680" y="135396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cade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652000" y="135576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ehavior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3157560" y="1952640"/>
            <a:ext cx="2666880" cy="4447800"/>
            <a:chOff x="3157560" y="1952640"/>
            <a:chExt cx="2666880" cy="4447800"/>
          </a:xfrm>
        </p:grpSpPr>
        <p:grpSp>
          <p:nvGrpSpPr>
            <p:cNvPr id="180" name="Group 12"/>
            <p:cNvGrpSpPr/>
            <p:nvPr/>
          </p:nvGrpSpPr>
          <p:grpSpPr>
            <a:xfrm>
              <a:off x="3157560" y="1952640"/>
              <a:ext cx="2666880" cy="4447800"/>
              <a:chOff x="3157560" y="1952640"/>
              <a:chExt cx="2666880" cy="4447800"/>
            </a:xfrm>
          </p:grpSpPr>
          <p:sp>
            <p:nvSpPr>
              <p:cNvPr id="181" name="AutoShape 13"/>
              <p:cNvSpPr/>
              <p:nvPr/>
            </p:nvSpPr>
            <p:spPr>
              <a:xfrm>
                <a:off x="4367160" y="1952640"/>
                <a:ext cx="247680" cy="4111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"/>
              <p:cNvSpPr/>
              <p:nvPr/>
            </p:nvSpPr>
            <p:spPr>
              <a:xfrm flipV="1">
                <a:off x="3157560" y="3351960"/>
                <a:ext cx="2666880" cy="3048120"/>
              </a:xfrm>
              <a:custGeom>
                <a:avLst/>
                <a:gdLst>
                  <a:gd name="textAreaLeft" fmla="*/ 679320 w 2666880"/>
                  <a:gd name="textAreaRight" fmla="*/ 1987560 w 2666880"/>
                  <a:gd name="textAreaTop" fmla="*/ 776160 h 3048120"/>
                  <a:gd name="textAreaBottom" fmla="*/ 2271960 h 304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05" y="21600"/>
                    </a:lnTo>
                    <a:lnTo>
                      <a:pt x="1419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15"/>
              <p:cNvSpPr/>
              <p:nvPr/>
            </p:nvSpPr>
            <p:spPr>
              <a:xfrm flipV="1">
                <a:off x="4051440" y="2971080"/>
                <a:ext cx="880920" cy="453960"/>
              </a:xfrm>
              <a:custGeom>
                <a:avLst/>
                <a:gdLst>
                  <a:gd name="textAreaLeft" fmla="*/ 141120 w 880920"/>
                  <a:gd name="textAreaRight" fmla="*/ 739800 w 880920"/>
                  <a:gd name="textAreaTop" fmla="*/ 72720 h 453960"/>
                  <a:gd name="textAreaBottom" fmla="*/ 381240 h 45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308" y="21600"/>
                    </a:lnTo>
                    <a:lnTo>
                      <a:pt x="18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6"/>
              <p:cNvSpPr/>
              <p:nvPr/>
            </p:nvSpPr>
            <p:spPr>
              <a:xfrm flipV="1">
                <a:off x="4184640" y="2666160"/>
                <a:ext cx="614520" cy="304920"/>
              </a:xfrm>
              <a:custGeom>
                <a:avLst/>
                <a:gdLst>
                  <a:gd name="textAreaLeft" fmla="*/ 95040 w 614520"/>
                  <a:gd name="textAreaRight" fmla="*/ 519480 w 614520"/>
                  <a:gd name="textAreaTop" fmla="*/ 47520 h 304920"/>
                  <a:gd name="textAreaBottom" fmla="*/ 25740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125" y="21600"/>
                    </a:lnTo>
                    <a:lnTo>
                      <a:pt x="1847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7"/>
              <p:cNvSpPr/>
              <p:nvPr/>
            </p:nvSpPr>
            <p:spPr>
              <a:xfrm flipV="1">
                <a:off x="4273560" y="2362320"/>
                <a:ext cx="433440" cy="304560"/>
              </a:xfrm>
              <a:custGeom>
                <a:avLst/>
                <a:gdLst>
                  <a:gd name="textAreaLeft" fmla="*/ 82440 w 433440"/>
                  <a:gd name="textAreaRight" fmla="*/ 351000 w 433440"/>
                  <a:gd name="textAreaTop" fmla="*/ 56880 h 304560"/>
                  <a:gd name="textAreaBottom" fmla="*/ 247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589" y="21600"/>
                    </a:lnTo>
                    <a:lnTo>
                      <a:pt x="1701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AutoShape 18"/>
            <p:cNvSpPr/>
            <p:nvPr/>
          </p:nvSpPr>
          <p:spPr>
            <a:xfrm>
              <a:off x="3157560" y="1971720"/>
              <a:ext cx="2666880" cy="4419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5867280" y="5638680"/>
            <a:ext cx="1828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entury Gothic"/>
              </a:rPr>
              <a:t>Illinois PBIS Network, Revised May 15, 2008. Adapted from “What is school-wide PBS?” OSEP Technical Assistance Center on Positive Behavioral Interventions and Supports.  Accessed at http://pbis.org/schoolwide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Evaluation and CPDU Process</a:t>
            </a:r>
            <a:br>
              <a:rPr sz="4400"/>
            </a:br>
            <a:r>
              <a:rPr b="0" lang="en-US" sz="2800" spc="-1" strike="noStrike">
                <a:solidFill>
                  <a:srgbClr val="3a54a5"/>
                </a:solidFill>
                <a:latin typeface="Cambria"/>
                <a:ea typeface="MS PGothic"/>
              </a:rPr>
              <a:t> </a:t>
            </a:r>
            <a:br>
              <a:rPr sz="2800"/>
            </a:b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For individuals who did </a:t>
            </a:r>
            <a:r>
              <a:rPr b="1" lang="en-US" sz="3000" spc="-1" strike="noStrike" u="sng">
                <a:solidFill>
                  <a:srgbClr val="009999"/>
                </a:solidFill>
                <a:uFillTx/>
                <a:latin typeface="Cambria"/>
                <a:ea typeface="MS PGothic"/>
              </a:rPr>
              <a:t>not</a:t>
            </a: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 register </a:t>
            </a:r>
            <a:br>
              <a:rPr sz="3000"/>
            </a:b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prior to the training</a:t>
            </a:r>
            <a:endParaRPr b="0" lang="en-US" sz="3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24382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e attendee contact information will be entered into Cvent and then the evaluation email will be s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ays after the training asking them to complete an evaluation using the link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ttendee’s follow the same process for completing the evaluation and obtaining CPDUs as those individuals who registered through Cv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3200400" y="1143000"/>
            <a:ext cx="3657600" cy="52578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4572000" y="106668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4830840" y="1066680"/>
            <a:ext cx="40644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 rot="1068600">
            <a:off x="3581280" y="837720"/>
            <a:ext cx="457200" cy="5673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7960 h 5673960"/>
              <a:gd name="textAreaBottom" fmla="*/ 5526000 h 567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190520" y="2967120"/>
            <a:ext cx="2035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ol-/Classroo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de System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Stud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, &amp;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 rot="20415000">
            <a:off x="5562720" y="99072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rot="20355600">
            <a:off x="5384520" y="93456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312"/>
                </a:lnTo>
                <a:cubicBezTo>
                  <a:pt x="10800" y="16212"/>
                  <a:pt x="16200" y="17112"/>
                  <a:pt x="21600" y="17112"/>
                </a:cubicBezTo>
                <a:cubicBezTo>
                  <a:pt x="16200" y="17112"/>
                  <a:pt x="10800" y="18012"/>
                  <a:pt x="10800" y="189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999040" y="1905120"/>
            <a:ext cx="2687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for Students with At-Risk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019920" y="304920"/>
            <a:ext cx="26668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ti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for Students with High-Risk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862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80% of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27440" y="2057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616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243080" y="131760"/>
            <a:ext cx="2963880" cy="9169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CHOOL-W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OSITIVE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>
            <a:hlinkClick r:id="rId1"/>
          </p:cNvPr>
          <p:cNvSpPr/>
          <p:nvPr/>
        </p:nvSpPr>
        <p:spPr>
          <a:xfrm>
            <a:off x="774720" y="6027840"/>
            <a:ext cx="183960" cy="366480"/>
          </a:xfrm>
          <a:custGeom>
            <a:avLst/>
            <a:gdLst>
              <a:gd name="textAreaLeft" fmla="*/ 11880 w 183960"/>
              <a:gd name="textAreaRight" fmla="*/ 172080 w 183960"/>
              <a:gd name="textAreaTop" fmla="*/ 11880 h 366480"/>
              <a:gd name="textAreaBottom" fmla="*/ 354600 h 366480"/>
            </a:gdLst>
            <a:ahLst/>
            <a:rect l="textAreaLeft" t="textAreaTop" r="textAreaRight" b="textAreaBottom"/>
            <a:pathLst>
              <a:path w="21600" h="42989">
                <a:moveTo>
                  <a:pt x="0" y="0"/>
                </a:moveTo>
                <a:lnTo>
                  <a:pt x="21600" y="0"/>
                </a:lnTo>
                <a:lnTo>
                  <a:pt x="21600" y="42989"/>
                </a:lnTo>
                <a:lnTo>
                  <a:pt x="0" y="42989"/>
                </a:lnTo>
                <a:close/>
              </a:path>
              <a:path fill="lightenLess" w="21600" h="42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89">
                <a:moveTo>
                  <a:pt x="21600" y="0"/>
                </a:moveTo>
                <a:lnTo>
                  <a:pt x="21600" y="42989"/>
                </a:lnTo>
                <a:lnTo>
                  <a:pt x="20200" y="41589"/>
                </a:lnTo>
                <a:lnTo>
                  <a:pt x="20200" y="1400"/>
                </a:lnTo>
                <a:close/>
              </a:path>
              <a:path fill="darkenLess" w="21600" h="42989">
                <a:moveTo>
                  <a:pt x="21600" y="42989"/>
                </a:moveTo>
                <a:lnTo>
                  <a:pt x="0" y="42989"/>
                </a:lnTo>
                <a:lnTo>
                  <a:pt x="1400" y="41589"/>
                </a:lnTo>
                <a:lnTo>
                  <a:pt x="20200" y="41589"/>
                </a:lnTo>
                <a:close/>
              </a:path>
              <a:path fill="lighten" w="21600" h="42989">
                <a:moveTo>
                  <a:pt x="0" y="42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89"/>
                </a:lnTo>
                <a:close/>
              </a:path>
              <a:path fill="darken" w="21600" h="42989">
                <a:moveTo>
                  <a:pt x="3794" y="14488"/>
                </a:moveTo>
                <a:lnTo>
                  <a:pt x="17806" y="21495"/>
                </a:lnTo>
                <a:lnTo>
                  <a:pt x="3794" y="28501"/>
                </a:lnTo>
                <a:close/>
              </a:path>
            </a:pathLst>
          </a:custGeom>
          <a:solidFill>
            <a:srgbClr val="3a54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5"/>
          <p:cNvSpPr/>
          <p:nvPr/>
        </p:nvSpPr>
        <p:spPr>
          <a:xfrm flipV="1">
            <a:off x="1793880" y="2399400"/>
            <a:ext cx="5486400" cy="422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301760" y="1333440"/>
            <a:ext cx="6470640" cy="1063080"/>
          </a:xfrm>
          <a:prstGeom prst="rect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MS PGothic"/>
              </a:rPr>
              <a:t>Tier 1/Universal</a:t>
            </a:r>
            <a:r>
              <a:rPr b="0" lang="en-US" sz="2800" spc="-1" strike="noStrike">
                <a:solidFill>
                  <a:srgbClr val="010464"/>
                </a:solidFill>
                <a:latin typeface="Century Gothi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  <a:ea typeface="MS PGothic"/>
              </a:rPr>
              <a:t>School-Wide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  <a:ea typeface="MS PGothic"/>
              </a:rPr>
              <a:t>School-Wide Preven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743200" y="613404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SIMEO Tools:    </a:t>
            </a:r>
            <a:br>
              <a:rPr sz="1400"/>
            </a:br>
            <a:r>
              <a:rPr b="0" i="1" lang="en-US" sz="1200" spc="-1" strike="noStrike">
                <a:solidFill>
                  <a:srgbClr val="800000"/>
                </a:solidFill>
                <a:latin typeface="Arial"/>
                <a:ea typeface="MS PGothic"/>
              </a:rPr>
              <a:t>HSC-T, RD-T, EI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7026120" y="2781360"/>
            <a:ext cx="166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heck-in/ Check-out (CI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72200" y="4114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Group Intervention with Individualized Feature                 (e.g. Mento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567760" y="5183280"/>
            <a:ext cx="346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Brief Functional Behavior Assessmen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Behavior Intervention Planning (FBA/B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75720" y="580392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omplex or Multiple-domain FBA/B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876200" y="62816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Wrap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62120" y="270504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ODRs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Attendance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Tardies, Grades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  DIBEL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295280" y="3848040"/>
            <a:ext cx="19051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Daily Progress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Report (DPR)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MS PGothic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MS PGothic"/>
              </a:rPr>
              <a:t>          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MS PGothic"/>
              </a:rPr>
              <a:t>(Behavior and </a:t>
            </a:r>
            <a:br>
              <a:rPr sz="1000"/>
            </a:b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MS PGothic"/>
              </a:rPr>
              <a:t>                   Academic Goal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1523880" y="4991040"/>
            <a:ext cx="239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ompeting Behavior       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Pathway, Functional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Assessment Interview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        Scatter Plot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553080" y="349560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Social/Academic Instructional Groups (SA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a54a5"/>
                </a:solidFill>
                <a:latin typeface="Cambria"/>
              </a:rPr>
              <a:t>Positive Behavior Interventions &amp; Supports:</a:t>
            </a:r>
            <a:br>
              <a:rPr sz="3100"/>
            </a:br>
            <a:r>
              <a:rPr b="0" lang="en-US" sz="3100" spc="-1" strike="noStrike">
                <a:solidFill>
                  <a:srgbClr val="3a54a5"/>
                </a:solidFill>
                <a:latin typeface="Cambria"/>
              </a:rPr>
              <a:t>A Response to Intervention (RtI)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3600" y="632448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ae7e10"/>
                </a:solidFill>
                <a:latin typeface="Century Gothic"/>
                <a:ea typeface="MS PGothic"/>
              </a:rPr>
              <a:t>Illinois PBIS Network, Revised October 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ae7e10"/>
                </a:solidFill>
                <a:latin typeface="Century Gothic"/>
                <a:ea typeface="MS PGothic"/>
              </a:rPr>
              <a:t>Adapted from T. Scott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394080" y="2743200"/>
            <a:ext cx="2286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ier 2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a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ier 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ert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 rot="18236400">
            <a:off x="5029920" y="344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entury Gothic"/>
                <a:ea typeface="MS PGothic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 rot="3430200">
            <a:off x="1904040" y="34520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entury Gothic"/>
                <a:ea typeface="MS PGothic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57:27Z</dcterms:created>
  <dc:creator>Kim Breen</dc:creator>
  <dc:description/>
  <dc:language>en-US</dc:language>
  <cp:lastModifiedBy>cewen</cp:lastModifiedBy>
  <dcterms:modified xsi:type="dcterms:W3CDTF">2012-01-24T20:55:54Z</dcterms:modified>
  <cp:revision>174</cp:revision>
  <dc:subject/>
  <dc:title>Slide 1</dc:title>
</cp:coreProperties>
</file>